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48A-82AC-465E-94AB-DDFABD1D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D99-ACD9-4C19-B5BA-3B978ADE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95F-D429-446D-8053-84B13C99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66E-FC51-4BCE-A558-853D2FF6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B85-D669-4A9A-84CE-DC425435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5A45-5833-4D32-97E5-4682C60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788-32FD-4F54-B8DD-1E3FE7C0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D71-BDDE-4DFB-A1B8-FFA241F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123B-F617-425C-A84C-B2C93BF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F9D-CD27-44E6-80FE-FE8D1E1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E78-9A88-48EE-80E0-5F43E48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595-2C04-4DC9-BBF4-50D5DC47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13BD-123C-4952-9680-A1BBE39E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2E80-BCFA-4284-A9B1-CEF55BE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C37F-FD35-482E-9C28-FE817C06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3DF2-8C25-431F-826B-4D65D85F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4519-15B4-43C2-BC40-552FCAD0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24B-628E-4B09-AA0F-45DCA29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E88-4DD5-4DAE-8127-9CC7E33A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CF1-59EF-4745-A863-4DC8CC1E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80A-1042-40F2-A1BF-BAE94B5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A41-05F3-4EBF-B0A2-DBB67B53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6CE-AE33-4AF1-A3A5-3A0850C2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3D9-8458-46F3-83C1-A5005A34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5EA-F60C-4426-B955-A47C236C8DE9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CE0D-6FCA-49A3-96B1-1EEEBF02F561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58760" y="755640"/>
            <a:ext cx="9326520" cy="323676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749160" y="469800"/>
            <a:ext cx="7096320" cy="125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086600" cy="15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OUTLINE: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Vocab test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Tree of facts: share and put up on wall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Researching other animals that are threatened, endangered or extinct 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Book Antiqua"/>
              </a:rPr>
              <a:t>NB:(Students can either each research an animal that’s threatened, endangered and extinct or one student can research a threatened animal and another endangered and the other extinct)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32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H/W: 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Vocab; Research topic: BEHAVIOUR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115920" y="963720"/>
            <a:ext cx="9290160" cy="2889000"/>
          </a:xfrm>
          <a:prstGeom prst="rect">
            <a:avLst/>
          </a:prstGeom>
          <a:ln w="0">
            <a:noFill/>
          </a:ln>
        </p:spPr>
      </p:pic>
      <p:sp>
        <p:nvSpPr>
          <p:cNvPr id="90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242560" cy="160992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0" y="90792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ind a species that is eithe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-THREATENE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- ENDANGERE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- EXTINCT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at do these following terms mean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**Threatened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**Endangered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**Extinct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escribe your species. 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clude a photo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xplain the species’ :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HABITAT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FOOD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BEHAVIOUR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PREDATORS</a:t>
            </a: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y is the species you have chosen Threatened/Endangered or Extinct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can we help this species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  <a:p>
            <a:pPr marL="625320" indent="-260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at Organisation is helping them survive?</a:t>
            </a:r>
            <a:endParaRPr b="0" lang="en-US" sz="16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603360" y="49320"/>
            <a:ext cx="841212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99" name="Picture 10" descr="http://www.african-safari-journals.com/image-files/orangutan-pictures.jpg"/>
          <p:cNvPicPr/>
          <p:nvPr/>
        </p:nvPicPr>
        <p:blipFill>
          <a:blip r:embed="rId2"/>
          <a:stretch/>
        </p:blipFill>
        <p:spPr>
          <a:xfrm>
            <a:off x="468360" y="2637000"/>
            <a:ext cx="3240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100" spc="-1" strike="noStrike">
              <a:solidFill>
                <a:srgbClr val="dce3d3"/>
              </a:solidFill>
              <a:latin typeface="Lucida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0:01:51Z</dcterms:created>
  <dc:creator>Taylor</dc:creator>
  <dc:description/>
  <dc:language>en-US</dc:language>
  <cp:lastModifiedBy>Education</cp:lastModifiedBy>
  <dcterms:modified xsi:type="dcterms:W3CDTF">2010-08-04T06:43:19Z</dcterms:modified>
  <cp:revision>51</cp:revision>
  <dc:subject/>
  <dc:title>DEFORESTATION</dc:title>
</cp:coreProperties>
</file>